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001D-934D-49FA-AE72-05D66589C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E7C6-EF11-4E04-8F9C-98CF26C9E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3CDB-F21E-47A6-AC8B-9F39E00F2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480B-CD72-4959-85C4-4A26DA31F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74670-BE5E-4F9F-A6BC-F77B5689D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87147-4782-494E-96D8-514FA895C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4FE22-B11C-42AB-ADFB-729156577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A5FFF-9C1F-4D0A-BE90-4BE230107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9B4A3-707B-4810-B322-BC87467E5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3E4DA-1165-4C99-BB9F-F9F80E4A6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98CD0-B257-470C-AA32-C65F19838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F377-80C0-4266-AA3C-5952F601E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376CB-5803-40F7-8540-45BF0A278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4EB0E-5602-414C-9FAA-18F9BA022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F21D8-4870-4EDE-92EF-11CF563B8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E60A9-2FB4-4F77-8BB9-4F4DD322B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8DD8A-D15C-4DE9-9795-C14B9E1E7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B1B7-4CE2-41FC-9B5B-44DAA2041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4D34-8ED3-47D2-8351-CEEAAF988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BE77-1CCD-4DB3-B9E4-9930B9C75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5B8D-BD50-4BE6-AA56-0A14BD33B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1F75-30F8-4104-9DBC-1839BD027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70A9-50EF-4203-8711-79A77ED04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430A-D346-4072-A005-E2F651440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74"/>
              </a:spcBef>
              <a:buClr>
                <a:srgbClr val="666633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8CE4B-0B49-40A8-A5E4-43FEC783ED8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F3375-31E0-491E-A8A6-E68E4D27A81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666633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26920" y="837720"/>
            <a:ext cx="749016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Herman Melville</a:t>
            </a:r>
            <a:br>
              <a:rPr sz="62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August 19 1819 - September 28 1891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4000" y="3733560"/>
            <a:ext cx="7848360" cy="21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1680" indent="-571680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elville’s Life and Work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-571680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he “True” Tale of </a:t>
            </a:r>
            <a:r>
              <a:rPr b="0" i="1" lang="en-GB" sz="2400" spc="-1" strike="noStrike">
                <a:solidFill>
                  <a:srgbClr val="ffffff"/>
                </a:solidFill>
                <a:latin typeface="Times New Roman"/>
              </a:rPr>
              <a:t>Benito Cereno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: Captain Amasa Delano’s </a:t>
            </a:r>
            <a:r>
              <a:rPr b="0" i="1" lang="en-GB" sz="2400" spc="-1" strike="noStrike">
                <a:solidFill>
                  <a:srgbClr val="ffffff"/>
                </a:solidFill>
                <a:latin typeface="Times New Roman"/>
              </a:rPr>
              <a:t>Narrative of Voyages and Travels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(1817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-571680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he Voyage of the </a:t>
            </a:r>
            <a:r>
              <a:rPr b="0" i="1" lang="en-GB" sz="2400" spc="-1" strike="noStrike">
                <a:solidFill>
                  <a:srgbClr val="ffffff"/>
                </a:solidFill>
                <a:latin typeface="Times New Roman"/>
              </a:rPr>
              <a:t>Tryal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/ </a:t>
            </a:r>
            <a:r>
              <a:rPr b="0" i="1" lang="en-GB" sz="2400" spc="-1" strike="noStrike">
                <a:solidFill>
                  <a:srgbClr val="ffffff"/>
                </a:solidFill>
                <a:latin typeface="Times New Roman"/>
              </a:rPr>
              <a:t>San Domini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-571680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elville’s </a:t>
            </a:r>
            <a:r>
              <a:rPr b="0" i="1" lang="en-GB" sz="2400" spc="-1" strike="noStrike">
                <a:solidFill>
                  <a:srgbClr val="ffffff"/>
                </a:solidFill>
                <a:latin typeface="Times New Roman"/>
              </a:rPr>
              <a:t>Benito Cereno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(1855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-571680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roblems of Reading </a:t>
            </a:r>
            <a:r>
              <a:rPr b="0" i="1" lang="en-GB" sz="2400" spc="-1" strike="noStrike">
                <a:solidFill>
                  <a:srgbClr val="ffffff"/>
                </a:solidFill>
                <a:latin typeface="Times New Roman"/>
              </a:rPr>
              <a:t>Benito Cere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Melville’s </a:t>
            </a:r>
            <a:r>
              <a:rPr b="0" i="1" lang="en-GB" sz="3600" spc="-1" strike="noStrike">
                <a:solidFill>
                  <a:srgbClr val="ffffff"/>
                </a:solidFill>
                <a:latin typeface="Times New Roman"/>
              </a:rPr>
              <a:t>Benito Cereno</a:t>
            </a: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 (1855):</a:t>
            </a:r>
            <a:br>
              <a:rPr sz="3600"/>
            </a:b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Changes to the </a:t>
            </a:r>
            <a:r>
              <a:rPr b="0" i="1" lang="en-GB" sz="3600" spc="-1" strike="noStrike">
                <a:solidFill>
                  <a:srgbClr val="ffffff"/>
                </a:solidFill>
                <a:latin typeface="Times New Roman"/>
              </a:rPr>
              <a:t>Voyages</a:t>
            </a: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 (2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3520" y="1844640"/>
            <a:ext cx="81532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date of the action moves from February 1805 to August 1799. </a:t>
            </a:r>
            <a:r>
              <a:rPr b="0" lang="en-GB" sz="2800" spc="-1" strike="noStrike">
                <a:solidFill>
                  <a:srgbClr val="666633"/>
                </a:solidFill>
                <a:latin typeface="Times New Roman"/>
              </a:rPr>
              <a:t>[Scudder says this is accidental, Franklin says it is deliberate.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on Aranda is no longer thrown overboard; he is stripped of his flesh and mounted as a skeleton on the prow over the message “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Seguid vuestro jefe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” – “Follow your leader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Benito Cereno is no longer responsible for trying to stab the slave; instead it is Bartholomew Barlo, a fictional sailor </a:t>
            </a:r>
            <a:r>
              <a:rPr b="0" lang="en-GB" sz="2800" spc="-1" strike="noStrike">
                <a:solidFill>
                  <a:srgbClr val="666633"/>
                </a:solidFill>
                <a:latin typeface="Times New Roman"/>
              </a:rPr>
              <a:t>[see </a:t>
            </a:r>
            <a:r>
              <a:rPr b="0" i="1" lang="en-GB" sz="2800" spc="-1" strike="noStrike">
                <a:solidFill>
                  <a:srgbClr val="666633"/>
                </a:solidFill>
                <a:latin typeface="Times New Roman"/>
              </a:rPr>
              <a:t>Benito Cereno</a:t>
            </a:r>
            <a:r>
              <a:rPr b="0" lang="en-GB" sz="2800" spc="-1" strike="noStrike">
                <a:solidFill>
                  <a:srgbClr val="666633"/>
                </a:solidFill>
                <a:latin typeface="Times New Roman"/>
              </a:rPr>
              <a:t> 2425]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Melville’s </a:t>
            </a:r>
            <a:r>
              <a:rPr b="0" i="1" lang="en-GB" sz="3600" spc="-1" strike="noStrike">
                <a:solidFill>
                  <a:srgbClr val="ffffff"/>
                </a:solidFill>
                <a:latin typeface="Times New Roman"/>
              </a:rPr>
              <a:t>Benito Cereno</a:t>
            </a: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 (1855):</a:t>
            </a:r>
            <a:br>
              <a:rPr sz="3600"/>
            </a:b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Changes to the </a:t>
            </a:r>
            <a:r>
              <a:rPr b="0" i="1" lang="en-GB" sz="3600" spc="-1" strike="noStrike">
                <a:solidFill>
                  <a:srgbClr val="ffffff"/>
                </a:solidFill>
                <a:latin typeface="Times New Roman"/>
              </a:rPr>
              <a:t>Voyages</a:t>
            </a: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 (3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3520" y="1844280"/>
            <a:ext cx="815328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lthough Captain Delano originally boarded the ship to make a profit, this has become a minor issue in comparison to his saving of the ship. Melville also omits the argument the two men had over salvage righ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ost of the descriptions of the Spanish ship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666633"/>
                </a:solidFill>
                <a:latin typeface="Times New Roman"/>
              </a:rPr>
              <a:t>[For more details on the changes, see Franklin 529-31 and Lea </a:t>
            </a:r>
            <a:r>
              <a:rPr b="0" lang="en-US" sz="2600" spc="-1" strike="noStrike">
                <a:solidFill>
                  <a:srgbClr val="666633"/>
                </a:solidFill>
                <a:latin typeface="Times New Roman"/>
              </a:rPr>
              <a:t>Newman’s </a:t>
            </a:r>
            <a:r>
              <a:rPr b="0" i="1" lang="en-US" sz="2600" spc="-1" strike="noStrike">
                <a:solidFill>
                  <a:srgbClr val="666633"/>
                </a:solidFill>
                <a:latin typeface="Times New Roman"/>
              </a:rPr>
              <a:t>A Reader’s Guide to the Short Stories of Herman Melville</a:t>
            </a:r>
            <a:r>
              <a:rPr b="0" lang="en-US" sz="2600" spc="-1" strike="noStrike">
                <a:solidFill>
                  <a:srgbClr val="666633"/>
                </a:solidFill>
                <a:latin typeface="Times New Roman"/>
              </a:rPr>
              <a:t>. Boston: G. K. Hall, 1986. 98-100.]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Melville’s </a:t>
            </a:r>
            <a:r>
              <a:rPr b="0" i="1" lang="en-GB" sz="3600" spc="-1" strike="noStrike">
                <a:solidFill>
                  <a:srgbClr val="ffffff"/>
                </a:solidFill>
                <a:latin typeface="Times New Roman"/>
              </a:rPr>
              <a:t>Benito Cereno</a:t>
            </a: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 (1855):</a:t>
            </a:r>
            <a:br>
              <a:rPr sz="3600"/>
            </a:b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m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15328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ligious Concer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testant vs. Cathol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acial &amp; National Tens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lack vs. Whi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merican vs. Spanis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udy of “Power Dynamics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bo / Captain Benito Cere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ptain Benito Cereno / Captain Amasa Dela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ptain Amasa Delano / his cre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roblems of Reading </a:t>
            </a: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Benito Ceren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484360" y="328464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aptain Benito Cere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321300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6699"/>
                </a:solidFill>
                <a:latin typeface="Times New Roman"/>
              </a:rPr>
              <a:t>Captain Amasa Dela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484360" y="314172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6633"/>
                </a:solidFill>
                <a:latin typeface="Times New Roman"/>
              </a:rPr>
              <a:t>Captain Amasa Dela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411280" y="321300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00"/>
                </a:solidFill>
                <a:latin typeface="Times New Roman"/>
              </a:rPr>
              <a:t>The Narr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340000" y="306864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66"/>
                </a:solidFill>
                <a:latin typeface="Times New Roman"/>
              </a:rPr>
              <a:t>Herman Melvil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348000" y="2276640"/>
            <a:ext cx="2376360" cy="0"/>
          </a:xfrm>
          <a:prstGeom prst="line">
            <a:avLst/>
          </a:prstGeom>
          <a:ln w="25560">
            <a:solidFill>
              <a:srgbClr val="99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1258920" y="2707920"/>
            <a:ext cx="0" cy="2521080"/>
          </a:xfrm>
          <a:prstGeom prst="line">
            <a:avLst/>
          </a:prstGeom>
          <a:ln w="25560">
            <a:solidFill>
              <a:srgbClr val="99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411280" y="2708280"/>
            <a:ext cx="4465800" cy="2449440"/>
          </a:xfrm>
          <a:prstGeom prst="line">
            <a:avLst/>
          </a:prstGeom>
          <a:ln w="25560">
            <a:solidFill>
              <a:srgbClr val="99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340000" y="2781360"/>
            <a:ext cx="360360" cy="722160"/>
          </a:xfrm>
          <a:prstGeom prst="line">
            <a:avLst/>
          </a:prstGeom>
          <a:ln w="25560">
            <a:solidFill>
              <a:srgbClr val="99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1.40871E-006 L 0.26388 0.29402 E">
                                      <p:cBhvr>
                                        <p:cTn id="30" dur="2000" fill="hold"/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3.05556E-006 2.92864E-006 L -0.2007 0.30468 E">
                                      <p:cBhvr>
                                        <p:cTn id="33" dur="2000" fill="hold"/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0"/>
                            </p:stCondLst>
                            <p:childTnLst>
                              <p:par>
                                <p:cTn id="35" nodeType="after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5.55556E-007 -1.40871E-006 L -0.28733 -0.16821 E">
                                      <p:cBhvr>
                                        <p:cTn id="36" dur="20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8000"/>
                            </p:stCondLst>
                            <p:childTnLst>
                              <p:par>
                                <p:cTn id="38" nodeType="afterEffect" fill="hold" presetClass="path" presetID="56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3.05556E-006 2.92864E-006 L 0.3033 -0.15779 E">
                                      <p:cBhvr>
                                        <p:cTn id="39" dur="2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roblems of Reading </a:t>
            </a: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Benito Ceren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3520" y="1773360"/>
            <a:ext cx="815328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rets of </a:t>
            </a:r>
            <a:r>
              <a:rPr b="0" i="1" lang="en-US" sz="2700" spc="-1" strike="noStrike">
                <a:solidFill>
                  <a:srgbClr val="ffffff"/>
                </a:solidFill>
                <a:latin typeface="Times New Roman"/>
              </a:rPr>
              <a:t>Benito Cereno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ffffff"/>
                </a:solidFill>
                <a:latin typeface="Times New Roman"/>
              </a:rPr>
              <a:t>Benito Cereno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s a Game of Ch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picking </a:t>
            </a:r>
            <a:r>
              <a:rPr b="0" i="1" lang="en-US" sz="2700" spc="-1" strike="noStrike">
                <a:solidFill>
                  <a:srgbClr val="ffffff"/>
                </a:solidFill>
                <a:latin typeface="Times New Roman"/>
              </a:rPr>
              <a:t>Benito Cereno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plitting </a:t>
            </a:r>
            <a:r>
              <a:rPr b="0" i="1" lang="en-US" sz="2700" spc="-1" strike="noStrike">
                <a:solidFill>
                  <a:srgbClr val="ffffff"/>
                </a:solidFill>
                <a:latin typeface="Times New Roman"/>
              </a:rPr>
              <a:t>Benito Cereno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2708280"/>
            <a:ext cx="8064360" cy="21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666633"/>
                </a:solidFill>
                <a:latin typeface="Times New Roman"/>
              </a:rPr>
              <a:t>Text (noun): 2b. The very words and sentences as originally written:  […] the body of any treatise, the authoritative or formal part as distinguished from notes, appendices, introduction, and other explanatory or supplementary matter. […] L. </a:t>
            </a:r>
            <a:r>
              <a:rPr b="0" i="1" lang="en-GB" sz="2300" spc="-1" strike="noStrike">
                <a:solidFill>
                  <a:srgbClr val="666633"/>
                </a:solidFill>
                <a:latin typeface="Times New Roman"/>
              </a:rPr>
              <a:t>textus</a:t>
            </a:r>
            <a:r>
              <a:rPr b="0" lang="en-GB" sz="2300" spc="-1" strike="noStrike">
                <a:solidFill>
                  <a:srgbClr val="666633"/>
                </a:solidFill>
                <a:latin typeface="Times New Roman"/>
              </a:rPr>
              <a:t> (</a:t>
            </a:r>
            <a:r>
              <a:rPr b="0" i="1" lang="en-GB" sz="2300" spc="-1" strike="noStrike">
                <a:solidFill>
                  <a:srgbClr val="666633"/>
                </a:solidFill>
                <a:latin typeface="Times New Roman"/>
              </a:rPr>
              <a:t>u</a:t>
            </a:r>
            <a:r>
              <a:rPr b="0" lang="en-GB" sz="2300" spc="-1" strike="noStrike">
                <a:solidFill>
                  <a:srgbClr val="666633"/>
                </a:solidFill>
                <a:latin typeface="Times New Roman"/>
              </a:rPr>
              <a:t>-stem) style, tissue of a literary work (Quintilian), lit. that which is woven, web, texture, f. </a:t>
            </a:r>
            <a:r>
              <a:rPr b="0" i="1" lang="en-GB" sz="2300" spc="-1" strike="noStrike">
                <a:solidFill>
                  <a:srgbClr val="666633"/>
                </a:solidFill>
                <a:latin typeface="Times New Roman"/>
              </a:rPr>
              <a:t>text-</a:t>
            </a:r>
            <a:r>
              <a:rPr b="0" lang="en-GB" sz="2300" spc="-1" strike="noStrike">
                <a:solidFill>
                  <a:srgbClr val="666633"/>
                </a:solidFill>
                <a:latin typeface="Times New Roman"/>
              </a:rPr>
              <a:t>, ppl. stem of </a:t>
            </a:r>
            <a:r>
              <a:rPr b="0" i="1" lang="en-GB" sz="2300" spc="-1" strike="noStrike">
                <a:solidFill>
                  <a:srgbClr val="666633"/>
                </a:solidFill>
                <a:latin typeface="Times New Roman"/>
              </a:rPr>
              <a:t>tex- re</a:t>
            </a:r>
            <a:r>
              <a:rPr b="0" lang="en-GB" sz="2300" spc="-1" strike="noStrike">
                <a:solidFill>
                  <a:srgbClr val="666633"/>
                </a:solidFill>
                <a:latin typeface="Times New Roman"/>
              </a:rPr>
              <a:t> to weave.] (</a:t>
            </a:r>
            <a:r>
              <a:rPr b="0" i="1" lang="en-GB" sz="2300" spc="-1" strike="noStrike">
                <a:solidFill>
                  <a:srgbClr val="666633"/>
                </a:solidFill>
                <a:latin typeface="Times New Roman"/>
              </a:rPr>
              <a:t>OED</a:t>
            </a:r>
            <a:r>
              <a:rPr b="0" lang="en-GB" sz="2300" spc="-1" strike="noStrike">
                <a:solidFill>
                  <a:srgbClr val="666633"/>
                </a:solidFill>
                <a:latin typeface="Times New Roman"/>
              </a:rPr>
              <a:t>)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Melville’s Life and Works (1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5406840" cy="41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Born in New York to an affluent (but not wealthy) family. </a:t>
            </a:r>
            <a:r>
              <a:rPr b="0" lang="en-GB" sz="2800" spc="-1" strike="noStrike">
                <a:solidFill>
                  <a:srgbClr val="666633"/>
                </a:solidFill>
                <a:latin typeface="Times New Roman"/>
              </a:rPr>
              <a:t>[1819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ather dies, leaving family in debt. </a:t>
            </a:r>
            <a:r>
              <a:rPr b="0" lang="en-GB" sz="2800" spc="-1" strike="noStrike">
                <a:solidFill>
                  <a:srgbClr val="666633"/>
                </a:solidFill>
                <a:latin typeface="Times New Roman"/>
              </a:rPr>
              <a:t>[1831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tarts a maritime life on a voyage to Liverpool, then joins a whaling ship. </a:t>
            </a:r>
            <a:r>
              <a:rPr b="0" lang="en-GB" sz="2800" spc="-1" strike="noStrike">
                <a:solidFill>
                  <a:srgbClr val="666633"/>
                </a:solidFill>
                <a:latin typeface="Times New Roman"/>
              </a:rPr>
              <a:t>[1839-1841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Jumps ship </a:t>
            </a:r>
            <a:r>
              <a:rPr b="0" lang="en-GB" sz="2800" spc="-1" strike="noStrike">
                <a:solidFill>
                  <a:srgbClr val="666633"/>
                </a:solidFill>
                <a:latin typeface="Times New Roman"/>
              </a:rPr>
              <a:t>[1842]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, but travels around Tahiti and Honolulu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227640" y="1916280"/>
            <a:ext cx="2346480" cy="34574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6227640" y="537372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elville (in 1860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Melville’s Life and Works (2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95280" y="1844640"/>
            <a:ext cx="4248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Returns to Boston. </a:t>
            </a:r>
            <a:r>
              <a:rPr b="0" lang="en-GB" sz="2200" spc="-1" strike="noStrike">
                <a:solidFill>
                  <a:srgbClr val="666633"/>
                </a:solidFill>
                <a:latin typeface="Times New Roman"/>
              </a:rPr>
              <a:t>[1844]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Marries Elizabeth Shaw</a:t>
            </a:r>
            <a:r>
              <a:rPr b="0" lang="en-GB" sz="2200" spc="-1" strike="noStrike">
                <a:solidFill>
                  <a:srgbClr val="666633"/>
                </a:solidFill>
                <a:latin typeface="Times New Roman"/>
              </a:rPr>
              <a:t> [1847]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Malcolm born </a:t>
            </a:r>
            <a:r>
              <a:rPr b="0" lang="en-US" sz="2200" spc="-1" strike="noStrike">
                <a:solidFill>
                  <a:srgbClr val="666633"/>
                </a:solidFill>
                <a:latin typeface="Times New Roman"/>
              </a:rPr>
              <a:t>[1849]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Moves to Pittsfield </a:t>
            </a:r>
            <a:r>
              <a:rPr b="0" lang="en-US" sz="2200" spc="-1" strike="noStrike">
                <a:solidFill>
                  <a:srgbClr val="666633"/>
                </a:solidFill>
                <a:latin typeface="Times New Roman"/>
              </a:rPr>
              <a:t>[1850]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Stanwix born </a:t>
            </a:r>
            <a:r>
              <a:rPr b="0" lang="en-US" sz="2200" spc="-1" strike="noStrike">
                <a:solidFill>
                  <a:srgbClr val="666633"/>
                </a:solidFill>
                <a:latin typeface="Times New Roman"/>
              </a:rPr>
              <a:t>[1851]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Elizabeth born </a:t>
            </a:r>
            <a:r>
              <a:rPr b="0" lang="en-US" sz="2200" spc="-1" strike="noStrike">
                <a:solidFill>
                  <a:srgbClr val="666633"/>
                </a:solidFill>
                <a:latin typeface="Times New Roman"/>
              </a:rPr>
              <a:t>[1853]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Frances born </a:t>
            </a:r>
            <a:r>
              <a:rPr b="0" lang="en-US" sz="2200" spc="-1" strike="noStrike">
                <a:solidFill>
                  <a:srgbClr val="666633"/>
                </a:solidFill>
                <a:latin typeface="Times New Roman"/>
              </a:rPr>
              <a:t>[1855]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Trip to Liverpool </a:t>
            </a:r>
            <a:r>
              <a:rPr b="0" lang="en-US" sz="2200" spc="-1" strike="noStrike">
                <a:solidFill>
                  <a:srgbClr val="666633"/>
                </a:solidFill>
                <a:latin typeface="Times New Roman"/>
              </a:rPr>
              <a:t>[1856-57]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Lectures around the US</a:t>
            </a:r>
            <a:r>
              <a:rPr b="0" lang="en-US" sz="2200" spc="-1" strike="noStrike">
                <a:solidFill>
                  <a:srgbClr val="666633"/>
                </a:solidFill>
                <a:latin typeface="Times New Roman"/>
              </a:rPr>
              <a:t> [1857-60]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643280" y="1844640"/>
            <a:ext cx="42498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550"/>
              </a:spcBef>
              <a:buClr>
                <a:srgbClr val="666633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666633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ffffff"/>
                </a:solidFill>
                <a:latin typeface="Times New Roman"/>
              </a:rPr>
              <a:t>Typee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200" spc="-1" strike="noStrike">
                <a:solidFill>
                  <a:srgbClr val="666633"/>
                </a:solidFill>
                <a:latin typeface="Times New Roman"/>
              </a:rPr>
              <a:t>[1846]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666633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Times New Roman"/>
              </a:rPr>
              <a:t>Omoo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666633"/>
                </a:solidFill>
                <a:latin typeface="Times New Roman"/>
              </a:rPr>
              <a:t>[1847]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666633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Times New Roman"/>
              </a:rPr>
              <a:t>Mardi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0" i="1" lang="en-US" sz="2200" spc="-1" strike="noStrike">
                <a:solidFill>
                  <a:srgbClr val="ffffff"/>
                </a:solidFill>
                <a:latin typeface="Times New Roman"/>
              </a:rPr>
              <a:t>Redburn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666633"/>
                </a:solidFill>
                <a:latin typeface="Times New Roman"/>
              </a:rPr>
              <a:t>[1849]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666633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Times New Roman"/>
              </a:rPr>
              <a:t>White-Jacket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666633"/>
                </a:solidFill>
                <a:latin typeface="Times New Roman"/>
              </a:rPr>
              <a:t>[1850]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666633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Times New Roman"/>
              </a:rPr>
              <a:t>Moby Dick</a:t>
            </a:r>
            <a:r>
              <a:rPr b="0" lang="en-US" sz="2200" spc="-1" strike="noStrike">
                <a:solidFill>
                  <a:srgbClr val="666633"/>
                </a:solidFill>
                <a:latin typeface="Times New Roman"/>
              </a:rPr>
              <a:t> [1851]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666633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Times New Roman"/>
              </a:rPr>
              <a:t>Pierre</a:t>
            </a:r>
            <a:r>
              <a:rPr b="0" lang="en-US" sz="2200" spc="-1" strike="noStrike">
                <a:solidFill>
                  <a:srgbClr val="666633"/>
                </a:solidFill>
                <a:latin typeface="Times New Roman"/>
              </a:rPr>
              <a:t> [1852]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666633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Times New Roman"/>
              </a:rPr>
              <a:t>The Isle of the Cross</a:t>
            </a:r>
            <a:r>
              <a:rPr b="0" lang="en-US" sz="2200" spc="-1" strike="noStrike">
                <a:solidFill>
                  <a:srgbClr val="666633"/>
                </a:solidFill>
                <a:latin typeface="Times New Roman"/>
              </a:rPr>
              <a:t> [1853]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666633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Times New Roman"/>
              </a:rPr>
              <a:t>Israel Potter</a:t>
            </a:r>
            <a:r>
              <a:rPr b="0" lang="en-US" sz="2200" spc="-1" strike="noStrike">
                <a:solidFill>
                  <a:srgbClr val="666633"/>
                </a:solidFill>
                <a:latin typeface="Times New Roman"/>
              </a:rPr>
              <a:t> [1855]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666633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Times New Roman"/>
              </a:rPr>
              <a:t>The Piazza Tales</a:t>
            </a:r>
            <a:r>
              <a:rPr b="0" lang="en-US" sz="2200" spc="-1" strike="noStrike">
                <a:solidFill>
                  <a:srgbClr val="666633"/>
                </a:solidFill>
                <a:latin typeface="Times New Roman"/>
              </a:rPr>
              <a:t> [1856]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666633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Times New Roman"/>
              </a:rPr>
              <a:t>The Confidence Man</a:t>
            </a:r>
            <a:r>
              <a:rPr b="0" lang="en-US" sz="2200" spc="-1" strike="noStrike">
                <a:solidFill>
                  <a:srgbClr val="666633"/>
                </a:solidFill>
                <a:latin typeface="Times New Roman"/>
              </a:rPr>
              <a:t> [1857]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666633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33"/>
                </a:solidFill>
                <a:latin typeface="Times New Roman"/>
              </a:rPr>
              <a:t>[Primarily shifts to poetry]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“True” Tale of </a:t>
            </a: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Benito Cereno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ptain Amasa Delano’s </a:t>
            </a: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Voyage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(1817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492000" y="1844640"/>
            <a:ext cx="52563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Wrote the account in ch. XVIII of the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Voyages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to defend his actions concerning the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Tryal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Used logs from his ship, the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Perseverance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, legal depositions, and official documents to reinforce his case against Don Benito Ceren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9640" y="1844640"/>
            <a:ext cx="2892600" cy="37450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468360" y="5589720"/>
            <a:ext cx="30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rom inside cover of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Voyag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5280" y="47268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Voyage of the </a:t>
            </a:r>
            <a:r>
              <a:rPr b="0" i="1" lang="en-GB" sz="3600" spc="-1" strike="noStrike">
                <a:solidFill>
                  <a:srgbClr val="ffffff"/>
                </a:solidFill>
                <a:latin typeface="Times New Roman"/>
              </a:rPr>
              <a:t>Tryal</a:t>
            </a: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 / </a:t>
            </a:r>
            <a:r>
              <a:rPr b="0" i="1" lang="en-GB" sz="3600" spc="-1" strike="noStrike">
                <a:solidFill>
                  <a:srgbClr val="ffffff"/>
                </a:solidFill>
                <a:latin typeface="Times New Roman"/>
              </a:rPr>
              <a:t>San Dominick</a:t>
            </a: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 (1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95280" y="1773360"/>
            <a:ext cx="6337440" cy="41846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564000" y="3860640"/>
            <a:ext cx="115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alparais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3492000" y="4076640"/>
            <a:ext cx="287640" cy="289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270240" y="3573360"/>
            <a:ext cx="222120" cy="792360"/>
          </a:xfrm>
          <a:custGeom>
            <a:avLst/>
            <a:gdLst/>
            <a:ahLst/>
            <a:rect l="l" t="t" r="r" b="b"/>
            <a:pathLst>
              <a:path w="140" h="499">
                <a:moveTo>
                  <a:pt x="140" y="499"/>
                </a:moveTo>
                <a:lnTo>
                  <a:pt x="23" y="277"/>
                </a:lnTo>
                <a:cubicBezTo>
                  <a:pt x="0" y="224"/>
                  <a:pt x="2" y="225"/>
                  <a:pt x="2" y="179"/>
                </a:cubicBezTo>
                <a:cubicBezTo>
                  <a:pt x="2" y="133"/>
                  <a:pt x="20" y="37"/>
                  <a:pt x="25" y="0"/>
                </a:cubicBezTo>
              </a:path>
            </a:pathLst>
          </a:custGeom>
          <a:noFill/>
          <a:ln w="12600">
            <a:solidFill>
              <a:srgbClr val="99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635280" y="4076640"/>
            <a:ext cx="11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cepció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3492000" y="4292640"/>
            <a:ext cx="287640" cy="288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77080" y="2060640"/>
            <a:ext cx="719280" cy="0"/>
          </a:xfrm>
          <a:prstGeom prst="line">
            <a:avLst/>
          </a:prstGeom>
          <a:ln w="255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732720" y="2133720"/>
            <a:ext cx="201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Journey of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ryal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(intended by Benito Cereno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76720" y="3068640"/>
            <a:ext cx="115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asc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3348000" y="3284640"/>
            <a:ext cx="287280" cy="288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5280" y="47268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Voyage of the </a:t>
            </a:r>
            <a:r>
              <a:rPr b="0" i="1" lang="en-GB" sz="3600" spc="-1" strike="noStrike">
                <a:solidFill>
                  <a:srgbClr val="ffffff"/>
                </a:solidFill>
                <a:latin typeface="Times New Roman"/>
              </a:rPr>
              <a:t>Tryal</a:t>
            </a: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 / </a:t>
            </a:r>
            <a:r>
              <a:rPr b="0" i="1" lang="en-GB" sz="3600" spc="-1" strike="noStrike">
                <a:solidFill>
                  <a:srgbClr val="ffffff"/>
                </a:solidFill>
                <a:latin typeface="Times New Roman"/>
              </a:rPr>
              <a:t>San Dominick</a:t>
            </a: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 (2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95280" y="1773360"/>
            <a:ext cx="6337440" cy="41846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564000" y="3860640"/>
            <a:ext cx="115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alparais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3492000" y="4076640"/>
            <a:ext cx="287640" cy="289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635280" y="4076640"/>
            <a:ext cx="11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cepció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3492000" y="4292640"/>
            <a:ext cx="287640" cy="288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503520" y="4508640"/>
            <a:ext cx="986040" cy="1249200"/>
          </a:xfrm>
          <a:custGeom>
            <a:avLst/>
            <a:gdLst/>
            <a:ahLst/>
            <a:rect l="l" t="t" r="r" b="b"/>
            <a:pathLst>
              <a:path w="621" h="787">
                <a:moveTo>
                  <a:pt x="356" y="0"/>
                </a:moveTo>
                <a:cubicBezTo>
                  <a:pt x="399" y="23"/>
                  <a:pt x="607" y="100"/>
                  <a:pt x="614" y="140"/>
                </a:cubicBezTo>
                <a:cubicBezTo>
                  <a:pt x="621" y="180"/>
                  <a:pt x="458" y="188"/>
                  <a:pt x="398" y="240"/>
                </a:cubicBezTo>
                <a:cubicBezTo>
                  <a:pt x="339" y="292"/>
                  <a:pt x="287" y="390"/>
                  <a:pt x="260" y="455"/>
                </a:cubicBezTo>
                <a:cubicBezTo>
                  <a:pt x="233" y="520"/>
                  <a:pt x="233" y="585"/>
                  <a:pt x="238" y="631"/>
                </a:cubicBezTo>
                <a:cubicBezTo>
                  <a:pt x="243" y="677"/>
                  <a:pt x="305" y="705"/>
                  <a:pt x="291" y="731"/>
                </a:cubicBezTo>
                <a:cubicBezTo>
                  <a:pt x="277" y="757"/>
                  <a:pt x="201" y="787"/>
                  <a:pt x="153" y="785"/>
                </a:cubicBezTo>
                <a:cubicBezTo>
                  <a:pt x="105" y="783"/>
                  <a:pt x="32" y="730"/>
                  <a:pt x="0" y="716"/>
                </a:cubicBezTo>
              </a:path>
            </a:pathLst>
          </a:custGeom>
          <a:noFill/>
          <a:ln w="19080">
            <a:solidFill>
              <a:srgbClr val="0000ff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276720" y="3645000"/>
            <a:ext cx="210960" cy="1968480"/>
          </a:xfrm>
          <a:custGeom>
            <a:avLst/>
            <a:gdLst/>
            <a:ahLst/>
            <a:rect l="l" t="t" r="r" b="b"/>
            <a:pathLst>
              <a:path w="133" h="1240">
                <a:moveTo>
                  <a:pt x="133" y="1240"/>
                </a:moveTo>
                <a:cubicBezTo>
                  <a:pt x="115" y="1183"/>
                  <a:pt x="29" y="1007"/>
                  <a:pt x="23" y="899"/>
                </a:cubicBezTo>
                <a:cubicBezTo>
                  <a:pt x="17" y="791"/>
                  <a:pt x="103" y="699"/>
                  <a:pt x="100" y="591"/>
                </a:cubicBezTo>
                <a:cubicBezTo>
                  <a:pt x="97" y="483"/>
                  <a:pt x="16" y="351"/>
                  <a:pt x="8" y="253"/>
                </a:cubicBezTo>
                <a:cubicBezTo>
                  <a:pt x="0" y="155"/>
                  <a:pt x="43" y="53"/>
                  <a:pt x="52" y="0"/>
                </a:cubicBezTo>
              </a:path>
            </a:pathLst>
          </a:custGeom>
          <a:noFill/>
          <a:ln w="19080">
            <a:solidFill>
              <a:srgbClr val="0000ff"/>
            </a:solidFill>
            <a:prstDash val="dash"/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804000" y="3068640"/>
            <a:ext cx="719280" cy="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732720" y="3213000"/>
            <a:ext cx="201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elated Journey of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ryal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by Benito Cereno (under dures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276720" y="3068640"/>
            <a:ext cx="115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asc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348000" y="3284640"/>
            <a:ext cx="287280" cy="288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885080" y="3068640"/>
            <a:ext cx="719280" cy="0"/>
          </a:xfrm>
          <a:prstGeom prst="line">
            <a:avLst/>
          </a:prstGeom>
          <a:ln w="25560">
            <a:solidFill>
              <a:srgbClr val="0000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95280" y="47268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Voyage of the </a:t>
            </a:r>
            <a:r>
              <a:rPr b="0" i="1" lang="en-GB" sz="3600" spc="-1" strike="noStrike">
                <a:solidFill>
                  <a:srgbClr val="ffffff"/>
                </a:solidFill>
                <a:latin typeface="Times New Roman"/>
              </a:rPr>
              <a:t>Tryal</a:t>
            </a: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 / </a:t>
            </a:r>
            <a:r>
              <a:rPr b="0" i="1" lang="en-GB" sz="3600" spc="-1" strike="noStrike">
                <a:solidFill>
                  <a:srgbClr val="ffffff"/>
                </a:solidFill>
                <a:latin typeface="Times New Roman"/>
              </a:rPr>
              <a:t>San Dominick</a:t>
            </a: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 (3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95280" y="1773360"/>
            <a:ext cx="6337440" cy="41846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564000" y="3860640"/>
            <a:ext cx="115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alparais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3492000" y="4076640"/>
            <a:ext cx="287640" cy="289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635280" y="4076640"/>
            <a:ext cx="11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cepció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492000" y="4292640"/>
            <a:ext cx="287640" cy="288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179880" y="3575160"/>
            <a:ext cx="282600" cy="801720"/>
          </a:xfrm>
          <a:custGeom>
            <a:avLst/>
            <a:gdLst/>
            <a:ahLst/>
            <a:rect l="l" t="t" r="r" b="b"/>
            <a:pathLst>
              <a:path w="178" h="505">
                <a:moveTo>
                  <a:pt x="178" y="474"/>
                </a:moveTo>
                <a:cubicBezTo>
                  <a:pt x="173" y="443"/>
                  <a:pt x="163" y="345"/>
                  <a:pt x="147" y="290"/>
                </a:cubicBezTo>
                <a:cubicBezTo>
                  <a:pt x="131" y="235"/>
                  <a:pt x="96" y="189"/>
                  <a:pt x="83" y="146"/>
                </a:cubicBezTo>
                <a:cubicBezTo>
                  <a:pt x="70" y="103"/>
                  <a:pt x="82" y="0"/>
                  <a:pt x="68" y="32"/>
                </a:cubicBezTo>
                <a:cubicBezTo>
                  <a:pt x="54" y="64"/>
                  <a:pt x="0" y="267"/>
                  <a:pt x="1" y="336"/>
                </a:cubicBezTo>
                <a:cubicBezTo>
                  <a:pt x="2" y="405"/>
                  <a:pt x="56" y="418"/>
                  <a:pt x="74" y="446"/>
                </a:cubicBezTo>
                <a:cubicBezTo>
                  <a:pt x="92" y="474"/>
                  <a:pt x="102" y="493"/>
                  <a:pt x="109" y="505"/>
                </a:cubicBezTo>
              </a:path>
            </a:pathLst>
          </a:custGeom>
          <a:noFill/>
          <a:ln w="19080">
            <a:solidFill>
              <a:srgbClr val="008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877080" y="4653000"/>
            <a:ext cx="719280" cy="0"/>
          </a:xfrm>
          <a:prstGeom prst="line">
            <a:avLst/>
          </a:prstGeom>
          <a:ln w="255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04000" y="4724280"/>
            <a:ext cx="201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Journey of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ryal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(intended by slave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276720" y="3068640"/>
            <a:ext cx="115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asc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3348000" y="3284640"/>
            <a:ext cx="287280" cy="288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324240" y="2998800"/>
            <a:ext cx="2185920" cy="2766960"/>
          </a:xfrm>
          <a:custGeom>
            <a:avLst/>
            <a:gdLst/>
            <a:ahLst/>
            <a:rect l="l" t="t" r="r" b="b"/>
            <a:pathLst>
              <a:path w="1377" h="1743">
                <a:moveTo>
                  <a:pt x="15" y="906"/>
                </a:moveTo>
                <a:cubicBezTo>
                  <a:pt x="18" y="961"/>
                  <a:pt x="34" y="1138"/>
                  <a:pt x="33" y="1237"/>
                </a:cubicBezTo>
                <a:cubicBezTo>
                  <a:pt x="32" y="1336"/>
                  <a:pt x="0" y="1423"/>
                  <a:pt x="10" y="1498"/>
                </a:cubicBezTo>
                <a:cubicBezTo>
                  <a:pt x="20" y="1573"/>
                  <a:pt x="32" y="1652"/>
                  <a:pt x="95" y="1690"/>
                </a:cubicBezTo>
                <a:cubicBezTo>
                  <a:pt x="158" y="1728"/>
                  <a:pt x="349" y="1743"/>
                  <a:pt x="387" y="1728"/>
                </a:cubicBezTo>
                <a:cubicBezTo>
                  <a:pt x="425" y="1713"/>
                  <a:pt x="321" y="1647"/>
                  <a:pt x="325" y="1598"/>
                </a:cubicBezTo>
                <a:cubicBezTo>
                  <a:pt x="329" y="1549"/>
                  <a:pt x="332" y="1529"/>
                  <a:pt x="410" y="1436"/>
                </a:cubicBezTo>
                <a:cubicBezTo>
                  <a:pt x="488" y="1343"/>
                  <a:pt x="717" y="1151"/>
                  <a:pt x="794" y="1037"/>
                </a:cubicBezTo>
                <a:cubicBezTo>
                  <a:pt x="871" y="923"/>
                  <a:pt x="814" y="825"/>
                  <a:pt x="870" y="753"/>
                </a:cubicBezTo>
                <a:cubicBezTo>
                  <a:pt x="926" y="681"/>
                  <a:pt x="1078" y="680"/>
                  <a:pt x="1132" y="607"/>
                </a:cubicBezTo>
                <a:cubicBezTo>
                  <a:pt x="1186" y="534"/>
                  <a:pt x="1152" y="416"/>
                  <a:pt x="1193" y="315"/>
                </a:cubicBezTo>
                <a:cubicBezTo>
                  <a:pt x="1234" y="214"/>
                  <a:pt x="1339" y="66"/>
                  <a:pt x="1377" y="0"/>
                </a:cubicBezTo>
              </a:path>
            </a:pathLst>
          </a:custGeom>
          <a:noFill/>
          <a:ln w="19080">
            <a:solidFill>
              <a:srgbClr val="008000"/>
            </a:solidFill>
            <a:prstDash val="dash"/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885080" y="4653000"/>
            <a:ext cx="719280" cy="0"/>
          </a:xfrm>
          <a:prstGeom prst="line">
            <a:avLst/>
          </a:prstGeom>
          <a:ln w="25560">
            <a:solidFill>
              <a:srgbClr val="008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Melville’s </a:t>
            </a:r>
            <a:r>
              <a:rPr b="0" i="1" lang="en-GB" sz="3600" spc="-1" strike="noStrike">
                <a:solidFill>
                  <a:srgbClr val="ffffff"/>
                </a:solidFill>
                <a:latin typeface="Times New Roman"/>
              </a:rPr>
              <a:t>Benito Cereno</a:t>
            </a: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 (185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9280" y="1916280"/>
            <a:ext cx="815364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ublished anonymously in 1855 in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Putnam’s Monthly Magazine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over three issues (October to December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ublished to assuage Melville’s fears of bringing in no money for his famil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-published in Melville’s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The Piazza Tales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in 1856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tory was mostly ignored; the link between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Benito Cereno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and Delano’s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Voyages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was only discovered in 1928 </a:t>
            </a:r>
            <a:r>
              <a:rPr b="0" lang="en-GB" sz="2800" spc="-1" strike="noStrike">
                <a:solidFill>
                  <a:srgbClr val="666633"/>
                </a:solidFill>
                <a:latin typeface="Times New Roman"/>
              </a:rPr>
              <a:t>[by Scudder]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000" y="472680"/>
            <a:ext cx="835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Melville’s </a:t>
            </a:r>
            <a:r>
              <a:rPr b="0" i="1" lang="en-GB" sz="3600" spc="-1" strike="noStrike">
                <a:solidFill>
                  <a:srgbClr val="ffffff"/>
                </a:solidFill>
                <a:latin typeface="Times New Roman"/>
              </a:rPr>
              <a:t>Benito Cereno</a:t>
            </a: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 (1855):</a:t>
            </a:r>
            <a:br>
              <a:rPr sz="3600"/>
            </a:b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Changes to the </a:t>
            </a:r>
            <a:r>
              <a:rPr b="0" i="1" lang="en-GB" sz="3600" spc="-1" strike="noStrike">
                <a:solidFill>
                  <a:srgbClr val="ffffff"/>
                </a:solidFill>
                <a:latin typeface="Times New Roman"/>
              </a:rPr>
              <a:t>Voyages</a:t>
            </a: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 (1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395280" y="1773360"/>
            <a:ext cx="6337440" cy="418464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3503520" y="4508640"/>
            <a:ext cx="986040" cy="1249200"/>
          </a:xfrm>
          <a:custGeom>
            <a:avLst/>
            <a:gdLst/>
            <a:ahLst/>
            <a:rect l="l" t="t" r="r" b="b"/>
            <a:pathLst>
              <a:path w="621" h="787">
                <a:moveTo>
                  <a:pt x="356" y="0"/>
                </a:moveTo>
                <a:cubicBezTo>
                  <a:pt x="399" y="23"/>
                  <a:pt x="607" y="100"/>
                  <a:pt x="614" y="140"/>
                </a:cubicBezTo>
                <a:cubicBezTo>
                  <a:pt x="621" y="180"/>
                  <a:pt x="458" y="188"/>
                  <a:pt x="398" y="240"/>
                </a:cubicBezTo>
                <a:cubicBezTo>
                  <a:pt x="339" y="292"/>
                  <a:pt x="287" y="390"/>
                  <a:pt x="260" y="455"/>
                </a:cubicBezTo>
                <a:cubicBezTo>
                  <a:pt x="233" y="520"/>
                  <a:pt x="233" y="585"/>
                  <a:pt x="238" y="631"/>
                </a:cubicBezTo>
                <a:cubicBezTo>
                  <a:pt x="243" y="677"/>
                  <a:pt x="305" y="705"/>
                  <a:pt x="291" y="731"/>
                </a:cubicBezTo>
                <a:cubicBezTo>
                  <a:pt x="277" y="757"/>
                  <a:pt x="201" y="787"/>
                  <a:pt x="153" y="785"/>
                </a:cubicBezTo>
                <a:cubicBezTo>
                  <a:pt x="105" y="783"/>
                  <a:pt x="32" y="730"/>
                  <a:pt x="0" y="716"/>
                </a:cubicBezTo>
              </a:path>
            </a:pathLst>
          </a:custGeom>
          <a:noFill/>
          <a:ln w="19080">
            <a:solidFill>
              <a:srgbClr val="0000ff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3645000"/>
            <a:ext cx="210960" cy="1968480"/>
          </a:xfrm>
          <a:custGeom>
            <a:avLst/>
            <a:gdLst/>
            <a:ahLst/>
            <a:rect l="l" t="t" r="r" b="b"/>
            <a:pathLst>
              <a:path w="133" h="1240">
                <a:moveTo>
                  <a:pt x="133" y="1240"/>
                </a:moveTo>
                <a:cubicBezTo>
                  <a:pt x="115" y="1183"/>
                  <a:pt x="29" y="1007"/>
                  <a:pt x="23" y="899"/>
                </a:cubicBezTo>
                <a:cubicBezTo>
                  <a:pt x="17" y="791"/>
                  <a:pt x="103" y="699"/>
                  <a:pt x="100" y="591"/>
                </a:cubicBezTo>
                <a:cubicBezTo>
                  <a:pt x="97" y="483"/>
                  <a:pt x="16" y="351"/>
                  <a:pt x="8" y="253"/>
                </a:cubicBezTo>
                <a:cubicBezTo>
                  <a:pt x="0" y="155"/>
                  <a:pt x="43" y="53"/>
                  <a:pt x="52" y="0"/>
                </a:cubicBezTo>
              </a:path>
            </a:pathLst>
          </a:custGeom>
          <a:noFill/>
          <a:ln w="19080">
            <a:solidFill>
              <a:srgbClr val="0000ff"/>
            </a:solidFill>
            <a:prstDash val="dash"/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03640" y="3573360"/>
            <a:ext cx="282600" cy="801720"/>
          </a:xfrm>
          <a:custGeom>
            <a:avLst/>
            <a:gdLst/>
            <a:ahLst/>
            <a:rect l="l" t="t" r="r" b="b"/>
            <a:pathLst>
              <a:path w="178" h="505">
                <a:moveTo>
                  <a:pt x="178" y="474"/>
                </a:moveTo>
                <a:cubicBezTo>
                  <a:pt x="173" y="443"/>
                  <a:pt x="163" y="345"/>
                  <a:pt x="147" y="290"/>
                </a:cubicBezTo>
                <a:cubicBezTo>
                  <a:pt x="131" y="235"/>
                  <a:pt x="96" y="189"/>
                  <a:pt x="83" y="146"/>
                </a:cubicBezTo>
                <a:cubicBezTo>
                  <a:pt x="70" y="103"/>
                  <a:pt x="82" y="0"/>
                  <a:pt x="68" y="32"/>
                </a:cubicBezTo>
                <a:cubicBezTo>
                  <a:pt x="54" y="64"/>
                  <a:pt x="0" y="267"/>
                  <a:pt x="1" y="336"/>
                </a:cubicBezTo>
                <a:cubicBezTo>
                  <a:pt x="2" y="405"/>
                  <a:pt x="56" y="418"/>
                  <a:pt x="74" y="446"/>
                </a:cubicBezTo>
                <a:cubicBezTo>
                  <a:pt x="92" y="474"/>
                  <a:pt x="102" y="493"/>
                  <a:pt x="109" y="505"/>
                </a:cubicBezTo>
              </a:path>
            </a:pathLst>
          </a:custGeom>
          <a:noFill/>
          <a:ln w="19080">
            <a:solidFill>
              <a:srgbClr val="008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04000" y="1989000"/>
            <a:ext cx="2087640" cy="39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90000"/>
                </a:solidFill>
                <a:latin typeface="Times New Roman"/>
              </a:rPr>
              <a:t>St. Maria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 – “a small, desert, uninhabited island toward the southern extremity of the long coast of Chili” (</a:t>
            </a:r>
            <a:r>
              <a:rPr b="0" i="1" lang="en-GB" sz="1600" spc="-1" strike="noStrike">
                <a:solidFill>
                  <a:srgbClr val="ffffff"/>
                </a:solidFill>
                <a:latin typeface="Times New Roman"/>
              </a:rPr>
              <a:t>Benito Cereno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en-GB" sz="1600" spc="-1" strike="noStrike">
                <a:solidFill>
                  <a:srgbClr val="ffffff"/>
                </a:solidFill>
                <a:latin typeface="Times New Roman"/>
              </a:rPr>
              <a:t>2405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 / </a:t>
            </a:r>
            <a:r>
              <a:rPr b="0" lang="en-GB" sz="1600" spc="-1" strike="noStrike" u="sng">
                <a:solidFill>
                  <a:srgbClr val="ffffff"/>
                </a:solidFill>
                <a:uFillTx/>
                <a:latin typeface="Times New Roman"/>
              </a:rPr>
              <a:t>2372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Note in Scudder, however: “in the vicinity of the port of Talcahuano” (530) and “the neighbouring coast of Arruco [Arauco]” (516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324240" y="2998800"/>
            <a:ext cx="2185920" cy="2809800"/>
          </a:xfrm>
          <a:custGeom>
            <a:avLst/>
            <a:gdLst/>
            <a:ahLst/>
            <a:rect l="l" t="t" r="r" b="b"/>
            <a:pathLst>
              <a:path w="1377" h="1770">
                <a:moveTo>
                  <a:pt x="15" y="906"/>
                </a:moveTo>
                <a:cubicBezTo>
                  <a:pt x="18" y="961"/>
                  <a:pt x="34" y="1138"/>
                  <a:pt x="33" y="1237"/>
                </a:cubicBezTo>
                <a:cubicBezTo>
                  <a:pt x="32" y="1336"/>
                  <a:pt x="0" y="1423"/>
                  <a:pt x="10" y="1498"/>
                </a:cubicBezTo>
                <a:cubicBezTo>
                  <a:pt x="20" y="1573"/>
                  <a:pt x="32" y="1652"/>
                  <a:pt x="95" y="1690"/>
                </a:cubicBezTo>
                <a:cubicBezTo>
                  <a:pt x="158" y="1728"/>
                  <a:pt x="334" y="1770"/>
                  <a:pt x="387" y="1728"/>
                </a:cubicBezTo>
                <a:cubicBezTo>
                  <a:pt x="440" y="1686"/>
                  <a:pt x="342" y="1551"/>
                  <a:pt x="410" y="1436"/>
                </a:cubicBezTo>
                <a:cubicBezTo>
                  <a:pt x="478" y="1321"/>
                  <a:pt x="717" y="1151"/>
                  <a:pt x="794" y="1037"/>
                </a:cubicBezTo>
                <a:cubicBezTo>
                  <a:pt x="871" y="923"/>
                  <a:pt x="814" y="825"/>
                  <a:pt x="870" y="753"/>
                </a:cubicBezTo>
                <a:cubicBezTo>
                  <a:pt x="926" y="681"/>
                  <a:pt x="1078" y="680"/>
                  <a:pt x="1132" y="607"/>
                </a:cubicBezTo>
                <a:cubicBezTo>
                  <a:pt x="1186" y="534"/>
                  <a:pt x="1152" y="416"/>
                  <a:pt x="1193" y="315"/>
                </a:cubicBezTo>
                <a:cubicBezTo>
                  <a:pt x="1234" y="214"/>
                  <a:pt x="1339" y="66"/>
                  <a:pt x="1377" y="0"/>
                </a:cubicBezTo>
              </a:path>
            </a:pathLst>
          </a:custGeom>
          <a:noFill/>
          <a:ln w="19080">
            <a:solidFill>
              <a:srgbClr val="008000"/>
            </a:solidFill>
            <a:prstDash val="dash"/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348000" y="5516640"/>
            <a:ext cx="289080" cy="287280"/>
          </a:xfrm>
          <a:prstGeom prst="ellipse">
            <a:avLst/>
          </a:prstGeom>
          <a:noFill/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3492360" y="2204640"/>
            <a:ext cx="3311640" cy="208908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3635280" y="2205000"/>
            <a:ext cx="3168720" cy="338472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03640" y="4149720"/>
            <a:ext cx="288720" cy="287280"/>
          </a:xfrm>
          <a:prstGeom prst="ellipse">
            <a:avLst/>
          </a:prstGeom>
          <a:noFill/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7T14:37:23Z</dcterms:created>
  <dc:creator>UWA</dc:creator>
  <dc:description/>
  <dc:language>en-US</dc:language>
  <cp:lastModifiedBy>UWA</cp:lastModifiedBy>
  <dcterms:modified xsi:type="dcterms:W3CDTF">2007-11-09T12:17:33Z</dcterms:modified>
  <cp:revision>10</cp:revision>
  <dc:subject/>
  <dc:title>Herman Melville</dc:title>
</cp:coreProperties>
</file>